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WHIZZ.wav" ContentType="audio/x-wav"/>
  <Override PartName="/ppt/media/ScoobyHewoo.wav" ContentType="audio/x-wav"/>
  <Override PartName="/ppt/media/WOW.wav" ContentType="audio/x-wav"/>
  <Override PartName="/ppt/media/goodjob.wav" ContentType="audio/x-wav"/>
  <Override PartName="/ppt/media/thank_you.wav" ContentType="audio/x-wav"/>
  <Override PartName="/ppt/media/yes.wav" ContentType="audio/x-wav"/>
  <Override PartName="/ppt/media/chimes.wav" ContentType="audio/x-wav"/>
  <Override PartName="/ppt/media/COOL.wav" ContentType="audio/x-wav"/>
  <Override PartName="/ppt/media/TADAH.wav" ContentType="audio/x-wav"/>
  <Override PartName="/ppt/media/ALRIGHTY.wav" ContentType="audio/x-wav"/>
  <Override PartName="/ppt/media/image3.png" ContentType="image/png"/>
  <Override PartName="/ppt/media/dogpant.wav" ContentType="audio/x-wav"/>
  <Override PartName="/ppt/media/image5.gif" ContentType="image/gif"/>
  <Override PartName="/ppt/media/yeahbaby.wav" ContentType="audio/x-wav"/>
  <Override PartName="/ppt/media/spirit.wav" ContentType="audio/x-wav"/>
  <Override PartName="/ppt/media/AllRight.wav" ContentType="audio/x-wav"/>
  <Override PartName="/ppt/media/YAYAYA.wav" ContentType="audio/x-wav"/>
  <Override PartName="/ppt/media/notbad.wav" ContentType="audio/x-wav"/>
  <Override PartName="/ppt/media/bowwow.wav" ContentType="audio/x-wav"/>
  <Override PartName="/ppt/media/doggrowl.wav" ContentType="audio/x-wav"/>
  <Override PartName="/ppt/media/FACTJACK.wav" ContentType="audio/x-wav"/>
  <Override PartName="/ppt/media/dogwine.wav" ContentType="audio/x-wav"/>
  <Override PartName="/ppt/media/image1.jpeg" ContentType="image/jpeg"/>
  <Override PartName="/ppt/media/image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91F-3497-442F-8C82-550CBBA8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D9F-C697-4B34-BBC0-92E756B4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22C-21B8-4D27-B643-4A6A78F8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9F6-7BBE-4B0E-996B-C12918EA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63D-398D-4508-8405-88D8AA74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77E-56B7-4533-ADE2-2ACBF486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9CB-2497-491E-8187-F50EE51F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494-7C3A-46BF-8ADB-22966567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286-2CF1-413A-9430-952BA33F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CEE-5F13-45EE-A110-A399CA19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4DF-B16A-4B36-848F-F26736FC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97D-656B-4B52-B772-5BD6EAB0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F9E-DCA1-4E78-9518-69F4737AF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audio" Target="../media/WOW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audio" Target="../media/WHIZZ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audio" Target="../media/ScoobyHewoo.wav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audio" Target="../media/TADAH.wav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audio" Target="../media/thank_you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pant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audio" Target="../media/ALRIGHTY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audio" Target="../media/COOL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audio" Target="../media/yes.wav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audio" Target="../media/goodjob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FACTJACK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audio" Target="../media/thank_you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AllRight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notbad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spirit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YAYAY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yeahbaby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bowwow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doggrow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audio" Target="../media/COOL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audio" Target="../media/yes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ogwin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audio" Target="../media/goodjob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dapted from a M.B. Alluisi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 rot="258000">
            <a:off x="990720" y="13716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42000"/>
                </a:gradFill>
                <a:latin typeface="Impact"/>
              </a:rPr>
              <a:t>Pepperoni for the Puppy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42000"/>
              </a:gradFill>
              <a:latin typeface="Impact"/>
              <a:ea typeface="Impact"/>
            </a:endParaRPr>
          </a:p>
        </p:txBody>
      </p:sp>
    </p:spTree>
  </p:cSld>
  <p:transition spd="slow" advTm="0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imate to solve this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ina bought a shirt for $13 and pants for $28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uch did she spend in all?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AutoShape 3">
            <a:hlinkClick r:id="" action="ppaction://hlinkshowjump?jump=nex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4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3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5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4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9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655308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6477120" y="388620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Oval 18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Oval 19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ick the math fact for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iron read 28 books. George read 13 book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ore books did Tiron read than George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8 + 1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8 + 28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8 - 1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3 - 28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2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655308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Oval 16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Oval 17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Oval 18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math fact for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an is 23 years old. Trina is 18 years old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hat is the difference in their ages?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8 + 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3 + 18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8 - 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AutoShape 6">
            <a:hlinkClick r:id="" action="ppaction://hlinkshowjump?jump=nex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3 - 18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4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Oval 16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9" name="Oval 17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imate to solve this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aula wrote 22 stories. Greg wrote 8 stori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ore did Paula write than Greg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2" name="AutoShape 4">
            <a:hlinkClick r:id="" action="ppaction://hlinkshowjump?jump=nex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0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0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15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Oval 14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Oval 16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math fact for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ni has 54 cents. Lisa has 22 cent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uch more money does Toni have than Lisa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4 + 2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2 + 5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4 - 2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2 - 5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35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Oval 7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Oval 8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Oval 9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Oval 10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5" name="Oval 12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Oval 13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e14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402"/>
                </a:solidFill>
                <a:latin typeface="Arial"/>
              </a:rPr>
              <a:t>Clicking on the correct answer will allow the puppy one piece of pepper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e14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402"/>
                </a:solidFill>
                <a:latin typeface="Arial"/>
              </a:rPr>
              <a:t>Feed the puppy all the pepperoni to complete th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ulldog_begs"/>
          <p:cNvPicPr/>
          <p:nvPr/>
        </p:nvPicPr>
        <p:blipFill>
          <a:blip r:embed="rId1"/>
          <a:stretch/>
        </p:blipFill>
        <p:spPr>
          <a:xfrm>
            <a:off x="5334120" y="3505320"/>
            <a:ext cx="252576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>
            <a:hlinkClick r:id="" action="ppaction://hlinkshowjump?jump=nextslide"/>
          </p:cNvPr>
          <p:cNvSpPr/>
          <p:nvPr/>
        </p:nvSpPr>
        <p:spPr>
          <a:xfrm>
            <a:off x="457200" y="5029200"/>
            <a:ext cx="3733920" cy="1828800"/>
          </a:xfrm>
          <a:custGeom>
            <a:avLst/>
            <a:gdLst>
              <a:gd name="textAreaLeft" fmla="*/ 118440 w 3733920"/>
              <a:gd name="textAreaRight" fmla="*/ 3615480 w 373392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44097" h="21600">
                <a:moveTo>
                  <a:pt x="0" y="0"/>
                </a:moveTo>
                <a:lnTo>
                  <a:pt x="44097" y="0"/>
                </a:lnTo>
                <a:lnTo>
                  <a:pt x="44097" y="21600"/>
                </a:lnTo>
                <a:lnTo>
                  <a:pt x="0" y="21600"/>
                </a:lnTo>
                <a:close/>
              </a:path>
              <a:path fill="lightenLess" w="44097" h="21600">
                <a:moveTo>
                  <a:pt x="0" y="0"/>
                </a:moveTo>
                <a:lnTo>
                  <a:pt x="44097" y="0"/>
                </a:lnTo>
                <a:lnTo>
                  <a:pt x="42697" y="1400"/>
                </a:lnTo>
                <a:lnTo>
                  <a:pt x="1400" y="1400"/>
                </a:lnTo>
                <a:close/>
              </a:path>
              <a:path fill="darken" w="44097" h="21600">
                <a:moveTo>
                  <a:pt x="44097" y="0"/>
                </a:moveTo>
                <a:lnTo>
                  <a:pt x="44097" y="21600"/>
                </a:lnTo>
                <a:lnTo>
                  <a:pt x="42697" y="20200"/>
                </a:lnTo>
                <a:lnTo>
                  <a:pt x="42697" y="1400"/>
                </a:lnTo>
                <a:close/>
              </a:path>
              <a:path fill="darkenLess" w="44097" h="21600">
                <a:moveTo>
                  <a:pt x="44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97" y="20200"/>
                </a:lnTo>
                <a:close/>
              </a:path>
              <a:path fill="lighten" w="44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97" h="21600">
                <a:moveTo>
                  <a:pt x="15042" y="3794"/>
                </a:moveTo>
                <a:lnTo>
                  <a:pt x="29055" y="10800"/>
                </a:lnTo>
                <a:lnTo>
                  <a:pt x="150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imate to solve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Last month John fed is dog 42 cans of food and his cat 21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uch more did his dog eat than his cat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0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AutoShape 4">
            <a:hlinkClick r:id="" action="ppaction://hlinkshowjump?jump=nex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2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54" name="Picture 7" descr="Bulldog_begs"/>
          <p:cNvPicPr/>
          <p:nvPr/>
        </p:nvPicPr>
        <p:blipFill>
          <a:blip r:embed="rId1"/>
          <a:stretch/>
        </p:blipFill>
        <p:spPr>
          <a:xfrm>
            <a:off x="7921800" y="-174600"/>
            <a:ext cx="11617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for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Last week Justin ran 19 miles. This week he ran 14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iles did he run altogether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8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nex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0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1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72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8" name="Oval 8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9" name="Oval 9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1" name="Oval 11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for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lie read 28 books in March. She read 37 in April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did she read in all?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5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89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Oval 7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6" name="Oval 8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Oval 9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Oval 11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math fact for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re are 17 boys and 12 girls in my clas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are there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1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2 - 1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7 - 1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7 + 1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4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2 - 17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05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Oval 4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 pizza has 8 slices. Joe at 2 and Jordan ate 3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slices are left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6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8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9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20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3" name="Oval 5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4" name="Oval 6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6" name="Oval 8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6"/>
          <p:cNvGrpSpPr/>
          <p:nvPr/>
        </p:nvGrpSpPr>
        <p:grpSpPr>
          <a:xfrm>
            <a:off x="1600200" y="762120"/>
            <a:ext cx="6172200" cy="5715000"/>
            <a:chOff x="1600200" y="762120"/>
            <a:chExt cx="6172200" cy="5715000"/>
          </a:xfrm>
        </p:grpSpPr>
        <p:sp>
          <p:nvSpPr>
            <p:cNvPr id="48" name="Oval 4">
              <a:hlinkClick r:id="" action="ppaction://hlinkshowjump?jump=nextslide"/>
            </p:cNvPr>
            <p:cNvSpPr/>
            <p:nvPr/>
          </p:nvSpPr>
          <p:spPr>
            <a:xfrm>
              <a:off x="1600200" y="762120"/>
              <a:ext cx="6172200" cy="5715000"/>
            </a:xfrm>
            <a:prstGeom prst="ellipse">
              <a:avLst/>
            </a:prstGeom>
            <a:gradFill rotWithShape="0">
              <a:gsLst>
                <a:gs pos="0">
                  <a:srgbClr val="fe1402"/>
                </a:gs>
                <a:gs pos="50000">
                  <a:srgbClr val="ffff66"/>
                </a:gs>
                <a:gs pos="100000">
                  <a:srgbClr val="fe1402"/>
                </a:gs>
              </a:gsLst>
              <a:lin ang="2700000"/>
            </a:gradFill>
            <a:ln w="127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49" name="Oval 5"/>
            <p:cNvSpPr/>
            <p:nvPr/>
          </p:nvSpPr>
          <p:spPr>
            <a:xfrm>
              <a:off x="2362320" y="4724280"/>
              <a:ext cx="914400" cy="9144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0" name="Oval 6"/>
            <p:cNvSpPr/>
            <p:nvPr/>
          </p:nvSpPr>
          <p:spPr>
            <a:xfrm>
              <a:off x="2590920" y="1523880"/>
              <a:ext cx="914400" cy="914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1" name="Oval 7"/>
            <p:cNvSpPr/>
            <p:nvPr/>
          </p:nvSpPr>
          <p:spPr>
            <a:xfrm>
              <a:off x="3657600" y="990720"/>
              <a:ext cx="914400" cy="9144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>
              <a:off x="4876920" y="1066680"/>
              <a:ext cx="914400" cy="9144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3" name="Oval 9"/>
            <p:cNvSpPr/>
            <p:nvPr/>
          </p:nvSpPr>
          <p:spPr>
            <a:xfrm>
              <a:off x="6019920" y="1523880"/>
              <a:ext cx="914400" cy="9144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4" name="Oval 10"/>
            <p:cNvSpPr/>
            <p:nvPr/>
          </p:nvSpPr>
          <p:spPr>
            <a:xfrm>
              <a:off x="6553080" y="2666880"/>
              <a:ext cx="914400" cy="9144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5" name="Oval 11"/>
            <p:cNvSpPr/>
            <p:nvPr/>
          </p:nvSpPr>
          <p:spPr>
            <a:xfrm>
              <a:off x="6477120" y="3886200"/>
              <a:ext cx="914400" cy="9144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5638680" y="4876920"/>
              <a:ext cx="914400" cy="9144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7" name="Oval 13"/>
            <p:cNvSpPr/>
            <p:nvPr/>
          </p:nvSpPr>
          <p:spPr>
            <a:xfrm>
              <a:off x="4495680" y="5410080"/>
              <a:ext cx="914400" cy="9144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8" name="Oval 14"/>
            <p:cNvSpPr/>
            <p:nvPr/>
          </p:nvSpPr>
          <p:spPr>
            <a:xfrm>
              <a:off x="1828800" y="3581280"/>
              <a:ext cx="914400" cy="9144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59" name="Oval 15"/>
            <p:cNvSpPr/>
            <p:nvPr/>
          </p:nvSpPr>
          <p:spPr>
            <a:xfrm>
              <a:off x="4191120" y="3124080"/>
              <a:ext cx="914400" cy="9144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20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0" name="Oval 16"/>
            <p:cNvSpPr/>
            <p:nvPr/>
          </p:nvSpPr>
          <p:spPr>
            <a:xfrm>
              <a:off x="3200400" y="4038480"/>
              <a:ext cx="914400" cy="91440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3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1" name="Oval 17"/>
            <p:cNvSpPr/>
            <p:nvPr/>
          </p:nvSpPr>
          <p:spPr>
            <a:xfrm>
              <a:off x="4267080" y="4419720"/>
              <a:ext cx="914400" cy="91440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4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2" name="Oval 18"/>
            <p:cNvSpPr/>
            <p:nvPr/>
          </p:nvSpPr>
          <p:spPr>
            <a:xfrm>
              <a:off x="3352680" y="5257800"/>
              <a:ext cx="914400" cy="91440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3" name="Oval 19"/>
            <p:cNvSpPr/>
            <p:nvPr/>
          </p:nvSpPr>
          <p:spPr>
            <a:xfrm>
              <a:off x="2895480" y="3048120"/>
              <a:ext cx="914400" cy="91440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9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4" name="Oval 20"/>
            <p:cNvSpPr/>
            <p:nvPr/>
          </p:nvSpPr>
          <p:spPr>
            <a:xfrm>
              <a:off x="5257800" y="3809880"/>
              <a:ext cx="914400" cy="91440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5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5" name="Oval 21"/>
            <p:cNvSpPr/>
            <p:nvPr/>
          </p:nvSpPr>
          <p:spPr>
            <a:xfrm>
              <a:off x="5562720" y="2666880"/>
              <a:ext cx="914400" cy="91440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6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6" name="Oval 22"/>
            <p:cNvSpPr/>
            <p:nvPr/>
          </p:nvSpPr>
          <p:spPr>
            <a:xfrm>
              <a:off x="4648320" y="2133720"/>
              <a:ext cx="914400" cy="91440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7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7" name="Oval 23"/>
            <p:cNvSpPr/>
            <p:nvPr/>
          </p:nvSpPr>
          <p:spPr>
            <a:xfrm>
              <a:off x="3505320" y="2133720"/>
              <a:ext cx="914400" cy="91440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8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68" name="Oval 24"/>
            <p:cNvSpPr/>
            <p:nvPr/>
          </p:nvSpPr>
          <p:spPr>
            <a:xfrm>
              <a:off x="1981080" y="2438280"/>
              <a:ext cx="914400" cy="91440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Arial"/>
                </a:rPr>
                <a:t>11</a:t>
              </a:r>
              <a:endParaRPr b="0" lang="en-US" sz="36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Gracie had 32 fish in her tank. She bought 17 more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ow how many does she have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0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5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1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2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9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3" name="AutoShape 6">
            <a:hlinkClick r:id="" action="ppaction://hlinkshowjump?jump=nex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9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34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Oval 6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9" name="Oval 7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0" name="Oval 8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an had twenty-seven pieces of gum. He ate ninetee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did he have left?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4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5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47" name="Picture 7" descr="Bulldog_begs"/>
          <p:cNvPicPr/>
          <p:nvPr/>
        </p:nvPicPr>
        <p:blipFill>
          <a:blip r:embed="rId1"/>
          <a:stretch/>
        </p:blipFill>
        <p:spPr>
          <a:xfrm>
            <a:off x="777240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2" name="Oval 7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rla has 3 boxes of donuts. Each box has 12 donut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donuts does she have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5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6" name="AutoShape 4">
            <a:hlinkClick r:id="" action="ppaction://hlinkshowjump?jump=nex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7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59" name="Picture 7" descr="Bulldog_begs"/>
          <p:cNvPicPr/>
          <p:nvPr/>
        </p:nvPicPr>
        <p:blipFill>
          <a:blip r:embed="rId1"/>
          <a:stretch/>
        </p:blipFill>
        <p:spPr>
          <a:xfrm>
            <a:off x="782964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1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2" name="Oval 4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4" name="Oval 7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imate to 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vid played his PS2 game for 37 minutes.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na played her PS2 game for 26 minut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inutes did they play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6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60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8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9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70" name="Picture 7" descr="Bulldog_begs"/>
          <p:cNvPicPr/>
          <p:nvPr/>
        </p:nvPicPr>
        <p:blipFill>
          <a:blip r:embed="rId1"/>
          <a:stretch/>
        </p:blipFill>
        <p:spPr>
          <a:xfrm>
            <a:off x="790560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Steelers scored 29 points. The Eagles scored 22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ore points did the Steelers have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6" name="AutoShape 3">
            <a:hlinkClick r:id="" action="ppaction://hlinkshowjump?jump=nex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80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2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3" name="Oval 4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ick the math fact for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Kelly has 14 marbles. Tony has 23 marbl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marbles do they have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AutoShape 5">
            <a:hlinkClick r:id="" action="ppaction://hlinkshowjump?jump=nex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4 + 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3 + 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AutoShape 7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4 + 1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AutoShape 8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4 - 2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4" name="Picture 9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manda ate 6 cookies, John ate 8 and Tonya ate 7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hat is the total number of cookies they ate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5" name="AutoShape 3">
            <a:hlinkClick r:id="" action="ppaction://hlinkshowjump?jump=nex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6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7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8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2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89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1" name="Oval 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answer to the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aria made 2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ozen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cakes. Her brother ate 4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a left now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3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5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97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99" name="Picture 4" descr="Cheese_dances"/>
          <p:cNvPicPr/>
          <p:nvPr/>
        </p:nvPicPr>
        <p:blipFill>
          <a:blip r:embed="rId1"/>
          <a:stretch/>
        </p:blipFill>
        <p:spPr>
          <a:xfrm>
            <a:off x="2971800" y="1676520"/>
            <a:ext cx="32670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30492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1402"/>
                </a:solidFill>
                <a:latin typeface="Arial"/>
              </a:rPr>
              <a:t>Credit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228600" y="13716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1402"/>
                </a:solidFill>
                <a:latin typeface="Arial"/>
              </a:rPr>
              <a:t>Animated Graphics are public domain from gifanimations.com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28600" y="32004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1402"/>
                </a:solidFill>
                <a:latin typeface="Arial"/>
              </a:rPr>
              <a:t>Sound effects are free for education purposes and came from Free Sound Effects at http://www.stonewashed.net/sfx.html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h No! Try it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angry_dog"/>
          <p:cNvPicPr/>
          <p:nvPr/>
        </p:nvPicPr>
        <p:blipFill>
          <a:blip r:embed="rId1"/>
          <a:stretch/>
        </p:blipFill>
        <p:spPr>
          <a:xfrm>
            <a:off x="2590920" y="1219320"/>
            <a:ext cx="4495680" cy="385416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6">
            <a:hlinkClick r:id="" action="ppaction://hlinkshowjump?jump=previousslide"/>
          </p:cNvPr>
          <p:cNvSpPr/>
          <p:nvPr/>
        </p:nvSpPr>
        <p:spPr>
          <a:xfrm>
            <a:off x="6019920" y="4800600"/>
            <a:ext cx="3124080" cy="2057400"/>
          </a:xfrm>
          <a:custGeom>
            <a:avLst/>
            <a:gdLst>
              <a:gd name="textAreaLeft" fmla="*/ 133200 w 3124080"/>
              <a:gd name="textAreaRight" fmla="*/ 2990880 w 31240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32797" h="21600">
                <a:moveTo>
                  <a:pt x="0" y="0"/>
                </a:moveTo>
                <a:lnTo>
                  <a:pt x="32797" y="0"/>
                </a:lnTo>
                <a:lnTo>
                  <a:pt x="32797" y="21600"/>
                </a:lnTo>
                <a:lnTo>
                  <a:pt x="0" y="21600"/>
                </a:lnTo>
                <a:close/>
              </a:path>
              <a:path fill="lightenLess" w="32797" h="21600">
                <a:moveTo>
                  <a:pt x="0" y="0"/>
                </a:moveTo>
                <a:lnTo>
                  <a:pt x="32797" y="0"/>
                </a:lnTo>
                <a:lnTo>
                  <a:pt x="31397" y="1400"/>
                </a:lnTo>
                <a:lnTo>
                  <a:pt x="1400" y="1400"/>
                </a:lnTo>
                <a:close/>
              </a:path>
              <a:path fill="darken" w="32797" h="21600">
                <a:moveTo>
                  <a:pt x="32797" y="0"/>
                </a:moveTo>
                <a:lnTo>
                  <a:pt x="32797" y="21600"/>
                </a:lnTo>
                <a:lnTo>
                  <a:pt x="31397" y="20200"/>
                </a:lnTo>
                <a:lnTo>
                  <a:pt x="31397" y="1400"/>
                </a:lnTo>
                <a:close/>
              </a:path>
              <a:path fill="darkenLess" w="32797" h="21600">
                <a:moveTo>
                  <a:pt x="32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97" y="20200"/>
                </a:lnTo>
                <a:close/>
              </a:path>
              <a:path fill="lighten" w="32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97" h="21600">
                <a:moveTo>
                  <a:pt x="9392" y="7493"/>
                </a:moveTo>
                <a:lnTo>
                  <a:pt x="12900" y="7493"/>
                </a:lnTo>
                <a:lnTo>
                  <a:pt x="12900" y="12828"/>
                </a:lnTo>
                <a:cubicBezTo>
                  <a:pt x="12900" y="13751"/>
                  <a:pt x="13700" y="14482"/>
                  <a:pt x="14736" y="14482"/>
                </a:cubicBezTo>
                <a:lnTo>
                  <a:pt x="16398" y="14482"/>
                </a:lnTo>
                <a:cubicBezTo>
                  <a:pt x="17434" y="14482"/>
                  <a:pt x="18235" y="13751"/>
                  <a:pt x="18235" y="12828"/>
                </a:cubicBezTo>
                <a:lnTo>
                  <a:pt x="18235" y="7493"/>
                </a:lnTo>
                <a:lnTo>
                  <a:pt x="16398" y="7493"/>
                </a:lnTo>
                <a:lnTo>
                  <a:pt x="19906" y="3985"/>
                </a:lnTo>
                <a:lnTo>
                  <a:pt x="23579" y="7493"/>
                </a:lnTo>
                <a:lnTo>
                  <a:pt x="21742" y="7493"/>
                </a:lnTo>
                <a:lnTo>
                  <a:pt x="21742" y="12828"/>
                </a:lnTo>
                <a:cubicBezTo>
                  <a:pt x="21742" y="15596"/>
                  <a:pt x="19166" y="18155"/>
                  <a:pt x="16398" y="18155"/>
                </a:cubicBezTo>
                <a:lnTo>
                  <a:pt x="14736" y="18155"/>
                </a:lnTo>
                <a:cubicBezTo>
                  <a:pt x="11968" y="18155"/>
                  <a:pt x="9392" y="15596"/>
                  <a:pt x="939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Oval 6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655308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6477120" y="388620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5638680" y="48769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4495680" y="54100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3352680" y="525780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Oval 19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Oval 20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Oval 21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nd the correct math problem for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lie ate three pieces of pizza. Jordan ate two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pieces of pizza did they eat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AutoShape 3">
            <a:hlinkClick r:id="" action="ppaction://hlinkshowjump?jump=las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 - 2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 + 3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AutoShape 5">
            <a:hlinkClick r:id="" action="ppaction://hlinkshowjump?jump=nex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3 + 2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 + 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7" descr="Bulldog_begs"/>
          <p:cNvPicPr/>
          <p:nvPr/>
        </p:nvPicPr>
        <p:blipFill>
          <a:blip r:embed="rId1"/>
          <a:stretch/>
        </p:blipFill>
        <p:spPr>
          <a:xfrm>
            <a:off x="746748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655308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6477120" y="388620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5638680" y="48769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4495680" y="54100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Oval 16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Oval 17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Oval 18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Oval 20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Oval 21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0" y="0"/>
            <a:ext cx="9144000" cy="17524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ick the math fact for this story problem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ianna has 3 dogs, 2 cats, and 14 fish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ow many pets does she have in all?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nextslide"/>
          </p:cNvPr>
          <p:cNvSpPr/>
          <p:nvPr/>
        </p:nvSpPr>
        <p:spPr>
          <a:xfrm>
            <a:off x="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 + 2 + 1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lastslide"/>
          </p:cNvPr>
          <p:cNvSpPr/>
          <p:nvPr/>
        </p:nvSpPr>
        <p:spPr>
          <a:xfrm>
            <a:off x="457200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 + 2 + 3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AutoShape 5">
            <a:hlinkClick r:id="" action="ppaction://hlinkshowjump?jump=lastslide"/>
          </p:cNvPr>
          <p:cNvSpPr/>
          <p:nvPr/>
        </p:nvSpPr>
        <p:spPr>
          <a:xfrm>
            <a:off x="4572000" y="1752480"/>
            <a:ext cx="4572000" cy="25146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 + 2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lastslide"/>
          </p:cNvPr>
          <p:cNvSpPr/>
          <p:nvPr/>
        </p:nvSpPr>
        <p:spPr>
          <a:xfrm>
            <a:off x="0" y="4267080"/>
            <a:ext cx="4572000" cy="2590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 + 14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5" name="Picture 7" descr="Bulldog_begs"/>
          <p:cNvPicPr/>
          <p:nvPr/>
        </p:nvPicPr>
        <p:blipFill>
          <a:blip r:embed="rId1"/>
          <a:stretch/>
        </p:blipFill>
        <p:spPr>
          <a:xfrm>
            <a:off x="7905600" y="0"/>
            <a:ext cx="116208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2">
            <a:hlinkClick r:id="" action="ppaction://hlinkshowjump?jump=nextslide"/>
          </p:cNvPr>
          <p:cNvSpPr/>
          <p:nvPr/>
        </p:nvSpPr>
        <p:spPr>
          <a:xfrm>
            <a:off x="1600200" y="762120"/>
            <a:ext cx="6172200" cy="5715000"/>
          </a:xfrm>
          <a:prstGeom prst="ellipse">
            <a:avLst/>
          </a:prstGeom>
          <a:gradFill rotWithShape="0">
            <a:gsLst>
              <a:gs pos="0">
                <a:srgbClr val="fe1402"/>
              </a:gs>
              <a:gs pos="50000">
                <a:srgbClr val="ffff66"/>
              </a:gs>
              <a:gs pos="100000">
                <a:srgbClr val="fe1402"/>
              </a:gs>
            </a:gsLst>
            <a:lin ang="2700000"/>
          </a:gradFill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Oval 3"/>
          <p:cNvSpPr/>
          <p:nvPr/>
        </p:nvSpPr>
        <p:spPr>
          <a:xfrm>
            <a:off x="2590920" y="1523880"/>
            <a:ext cx="9144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3657600" y="990720"/>
            <a:ext cx="9144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4876920" y="106668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6019920" y="1523880"/>
            <a:ext cx="914400" cy="914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6553080" y="266688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6477120" y="388620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5638680" y="4876920"/>
            <a:ext cx="91440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828800" y="3581280"/>
            <a:ext cx="91440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4191120" y="3124080"/>
            <a:ext cx="914400" cy="9144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4267080" y="4419720"/>
            <a:ext cx="9144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2895480" y="3048120"/>
            <a:ext cx="914400" cy="9144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5257800" y="3809880"/>
            <a:ext cx="914400" cy="9144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Oval 17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Oval 18"/>
          <p:cNvSpPr/>
          <p:nvPr/>
        </p:nvSpPr>
        <p:spPr>
          <a:xfrm>
            <a:off x="4648320" y="2133720"/>
            <a:ext cx="914400" cy="91440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Oval 19"/>
          <p:cNvSpPr/>
          <p:nvPr/>
        </p:nvSpPr>
        <p:spPr>
          <a:xfrm>
            <a:off x="3505320" y="2133720"/>
            <a:ext cx="914400" cy="91440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1981080" y="2438280"/>
            <a:ext cx="914400" cy="91440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6:51:33Z</dcterms:created>
  <dc:creator>balluisi</dc:creator>
  <dc:description/>
  <dc:language>en-US</dc:language>
  <cp:lastModifiedBy>User</cp:lastModifiedBy>
  <dcterms:modified xsi:type="dcterms:W3CDTF">2011-10-27T14:44:09Z</dcterms:modified>
  <cp:revision>73</cp:revision>
  <dc:subject/>
  <dc:title>Slide 1</dc:title>
</cp:coreProperties>
</file>